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7962-FAAB-454C-8026-E08E72D29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421A-8F99-4EFD-89AF-D17083B13E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69DD-8836-4FF0-A438-F8B22D36E6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804B9-6564-4EF8-817F-EEE032924C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DC14D-1310-49BA-960B-F2804EB0E6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0A789-1F6A-44A7-8783-8D957AC1ED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EC1C7-2C0C-40DD-8657-6B295BEF7F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12298-9786-4D7E-9201-E196BDE57C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49634-488C-4B30-B7F4-3685775353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1F368-3F19-44C1-AFA8-6015A11BCC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821FE-0F6C-4AE7-80A7-A81A8715C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9346D-9422-480F-99FB-FB9F6B5CEF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B0151-49D6-4244-8483-6857F65C9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D60B7-9182-40EA-9CB4-DDE6057DD6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0D9C0-2774-49DB-9D5D-79292C45C9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42EC-A4E0-4FB6-A892-11EB20D6C1F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9" descr="intelEDU_wht_lrg [Converted]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1"/>
          <p:cNvSpPr/>
          <p:nvPr/>
        </p:nvSpPr>
        <p:spPr>
          <a:xfrm>
            <a:off x="966960" y="642132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intelEDU_wht_lrg [Converted]"/>
          <p:cNvPicPr/>
          <p:nvPr/>
        </p:nvPicPr>
        <p:blipFill>
          <a:blip r:embed="rId2"/>
          <a:stretch/>
        </p:blipFill>
        <p:spPr>
          <a:xfrm>
            <a:off x="6478560" y="28404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487440" y="650088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cmcguid.htm" TargetMode="External"/><Relationship Id="rId2" Type="http://schemas.openxmlformats.org/officeDocument/2006/relationships/hyperlink" Target="http://www.utsystem.edu/OGC/IntellectualProperty/copypol2.htm" TargetMode="External"/><Relationship Id="rId3" Type="http://schemas.openxmlformats.org/officeDocument/2006/relationships/hyperlink" Target="http://www.copyright.gov/circs/circ1.html" TargetMode="External"/><Relationship Id="rId4" Type="http://schemas.openxmlformats.org/officeDocument/2006/relationships/hyperlink" Target="http://www.benedict.com/" TargetMode="External"/><Relationship Id="rId5" Type="http://schemas.openxmlformats.org/officeDocument/2006/relationships/hyperlink" Target="http://www.utsystem.edu/OGC/IntellectualProperty/faculty.htm" TargetMode="Externa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templetons.com/brad/copymyths.html" TargetMode="External"/><Relationship Id="rId2" Type="http://schemas.openxmlformats.org/officeDocument/2006/relationships/hyperlink" Target="http://www.duhaime.org/diction.htm" TargetMode="External"/><Relationship Id="rId3" Type="http://schemas.openxmlformats.org/officeDocument/2006/relationships/hyperlink" Target="http://www.copyright.cornell.edu/training/Hirtle_Public_Domain.htm" TargetMode="External"/><Relationship Id="rId4" Type="http://schemas.openxmlformats.org/officeDocument/2006/relationships/hyperlink" Target="http://www.utsystem.edu/ogc/intellectualproperty/copypol2.htm#mm&#x0d;" TargetMode="Externa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opypol2.htm#course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Haosul Copyright-ului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ubTitle"/>
          </p:nvPr>
        </p:nvSpPr>
        <p:spPr>
          <a:xfrm>
            <a:off x="91404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Un ghid educa</a:t>
            </a:r>
            <a:r>
              <a:rPr b="0" lang="ro-RO" sz="40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onal de utilizare a dreptului de auto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ezentarea a fost creat</a:t>
            </a:r>
            <a:r>
              <a:rPr b="0" lang="ro-RO" sz="16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pentru cursu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ubstituent număr diapozitiv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6EE6-5A90-45C6-A18C-AA49B7C7E5F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Atribuiri 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ş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i recuno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ş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tii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nţ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Numi</a:t>
            </a:r>
            <a:r>
              <a:rPr b="0" lang="ro-RO" sz="1800" spc="-1" strike="noStrike">
                <a:solidFill>
                  <a:srgbClr val="f5e647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i sursel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afi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ti semnul de copyright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©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66cc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Verdana"/>
              </a:rPr>
              <a:t>Numirea surselor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 - d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o descriere bibliografi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omple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u inform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ile care sunt disponibil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incluzand autorul, titlul,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ipografia,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ocul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data ti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rii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66cc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ccff"/>
                </a:solidFill>
                <a:latin typeface="Verdana"/>
              </a:rPr>
              <a:t>Afi</a:t>
            </a:r>
            <a:r>
              <a:rPr b="0" lang="ro-RO" sz="1800" spc="-1" strike="noStrike">
                <a:solidFill>
                  <a:srgbClr val="66ccff"/>
                </a:solidFill>
                <a:latin typeface="Verdana"/>
              </a:rPr>
              <a:t>ş</a:t>
            </a:r>
            <a:r>
              <a:rPr b="0" lang="fr-FR" sz="1800" spc="-1" strike="noStrike">
                <a:solidFill>
                  <a:srgbClr val="66ccff"/>
                </a:solidFill>
                <a:latin typeface="Verdana"/>
              </a:rPr>
              <a:t>ati semnul de copyright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:-sub poze adaug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 inform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i despre d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torul copyrightului(anul primei apari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i,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umele d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torului dreptului de autor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</a:t>
            </a:r>
            <a:r>
              <a:rPr b="0" lang="ro-RO" sz="20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pl</a:t>
            </a:r>
            <a:r>
              <a:rPr b="0" lang="ro-RO" sz="20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© 2001 Company/Person’s Na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ubstituent număr diapozitiv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DA6C-CD71-4AAA-AB2C-F0A1739DCE5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0720" y="228240"/>
            <a:ext cx="869328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Folosire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a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 ulterioar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ă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 dincolo de folosirea legal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ă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Da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exis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posibilitatea ca un proiect 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fie 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s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di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(de exemplu publicat pe internet): ob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n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 permisiunea 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d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l cre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, de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t 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astept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emple de scrisori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ermisiune sunt disponibile pe Curriculum Resource CD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lder-ul Resource, Copyright Resourc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crisori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ermisiune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d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rii dreptului de aut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crisori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ermisiune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de a publica luc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le elevil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n exemplu de scrisoare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a  folosi  acest cur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ubstituent număr diapozitiv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5BC7-2F99-43F1-AFA9-5869D5F3C77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5760" y="1371600"/>
            <a:ext cx="823752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faturi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eti ca acestea sunt sfaturi, nu leg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Cu toate acestea, cu 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t te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de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rtezi mai mult de aceste sfaturi,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cu a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t mai mult ai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a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sa 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fii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 afara “folosirii legal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ubstituent număr diapozitiv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6773-0384-4AA8-BE40-75488EFEACD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Software 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ar despre software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aca nu ai permisiunea d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rului dreptului de autor, atunci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te ilegal 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curi o lice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un singur utilizator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o folos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i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mai multe calculatoare sau un serv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ownloadezi softuri cu drept de autor de pe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terne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prumu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lii tale softul pe care l-ai procurat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alculatorul 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 de aca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14400" y="342864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Copyright and Fair U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ubstituent număr diapozitiv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C9A6-D262-43E8-921A-3D2F472BC24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ditional resources to help you and your students understand and follow copyright law and fair use guidelines are located in the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Resources, Copyright Resourc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folder on the Curriculum Resource CD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Educational Multimedia”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epared by the Educational Multimedia Fair Use Guidelines Development Committee, July 17, 1996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cmcguid.htm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Of Copyrighted Materials” by Georgia Harper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copypol2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Basics” by the U.S. Copyright Office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copyright.gov/circs/circ1.html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Copyright Website” by Benedict O’Mahoney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4"/>
              </a:rPr>
              <a:t>www.benedict.co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Law in the Electronic Environment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5"/>
              </a:rPr>
              <a:t>www.utsystem.edu/OGC/IntellectualProperty/faculty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ubstituent număr diapozitiv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9FAE-F8CF-43E8-A72D-B9509CA54A2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0 Big Myths about Copyright Explained” by Brad Templeton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templetons.com/brad/copymyths.htm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uhaime's Legal Dictionary” by Lloyd Duhaime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duhaime.org/diction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Term and the Public Domain in the United States” by Peter B. Hirtle, Cornell Institute for Digital Collec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copyright.cornell.edu/training/Hirtle_Public_Domain.htm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Digitizing And Using Others' Works In Multimedia Materials For Educational Purpos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4"/>
              </a:rPr>
              <a:t>www.utsystem.edu/ogc/intellectualproperty/copypol2.htm#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ubstituent număr diapozitiv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BF88-5A20-4CF1-BCDF-45A3F1A41E8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Coursepack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opypol2.htm#cours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 Proposal For Educational Fair Use Guidelines For Digital Images” by Georgia Harper, University of Texas www.utsystem.edu/OGC/IntellectualProperty/imagguid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ist of Links to Other Copyright Sites by Georgia Harper, University of Texas www.utsystem.edu/OGC/IntellectualProperty/offsite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Multimedia” by Intel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Education www.intel.com/education/newtotech/fair_use_multimedia.ht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ubstituent număr diapozitiv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B145-7B66-4946-81B1-615FA1547EE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nformation on Software 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ct Sheet on School Software Use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pubs/SchoolSoftwareUse.pdf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igital Anarchy: Part One of an Analysis of Software Piracy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David Laprad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ww.avault.com/articles/getarticle.asp?name=warez1&amp;page=1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Federation Against Software Theft (FAST)” (United Kingdom organization) www.fast.org.u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ti-Piracy FAQ” 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faq.asp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ermissible Copying of Software” by Georgia Harper, University of Texas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Verdana"/>
              </a:rPr>
              <a:t>www.utsystem.edu/OGC/IntellectualProperty/mono2.ht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ubstituent număr diapozitiv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217B-98E3-4A32-8AAF-7A3AD8FE687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Utilizarea acestei prezent</a:t>
            </a:r>
            <a:r>
              <a:rPr b="1" lang="ro-RO" sz="26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i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ceasta prezentare  poate fi utilizat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n scopuri non-profit , educa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onale 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 apar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ne firmei  Intel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ubstituent număr diapozitiv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A332-141A-45BF-970E-9D7AB102A21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e este copyrightul?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reptul exclusiv de a produce si reproduce, de a prezenta in public sau de a publica o opera originala artistic</a:t>
            </a:r>
            <a:r>
              <a:rPr b="0" lang="ro-RO" sz="30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sau litera</a:t>
            </a:r>
            <a:r>
              <a:rPr b="0" lang="ro-RO" sz="3000" spc="-1" strike="noStrike">
                <a:solidFill>
                  <a:srgbClr val="ffffff"/>
                </a:solidFill>
                <a:latin typeface="Verdana"/>
              </a:rPr>
              <a:t>ră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proape orice creat</a:t>
            </a:r>
            <a:r>
              <a:rPr b="0" lang="ro-RO" sz="3000" spc="-1" strike="noStrike">
                <a:solidFill>
                  <a:srgbClr val="ffffff"/>
                </a:solidFill>
                <a:latin typeface="Verdana"/>
              </a:rPr>
              <a:t>ie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privat</a:t>
            </a:r>
            <a:r>
              <a:rPr b="0" lang="ro-RO" sz="30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30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i original</a:t>
            </a:r>
            <a:r>
              <a:rPr b="0" lang="ro-RO" sz="30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 este protejat</a:t>
            </a:r>
            <a:r>
              <a:rPr b="0" lang="ro-RO" sz="30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intelEDU_wht_lrg [Converted]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966960" y="642132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ubstituent număr diapozitiv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7C55-CC50-4245-B49C-188BFDE7022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Itemi care nu sunt proteja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ţ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i: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emple de itemi care nu sunt protej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de legea copyrightului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uc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 care nu au fost scrise sau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regist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dei, metode, descoperiri care se disting dintr-o descriere, explic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e sau ilustr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uc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 constituite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 intregime din inform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i commune( de ex : calendare standard, carte de telefoane 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temi din domeniul public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joritatea materialelor guvernamentale ale US(unii itemi cre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de antreprenori pt guvern pot fi protej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ap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ubstituent număr diapozitiv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15D8-ED30-429F-853A-9A1D22918D2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Clauza folosirii legal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losirea legal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este o parte a legii copyrightului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 US. Permite oamenilor sa foloseasca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opieze luc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 protejate da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sunt folosite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itic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entari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i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ţ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urse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la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erceta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ubstituent număr diapozitiv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BF8B-98C3-4164-8896-AFAE4484F77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4 factori 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 care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ajut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ă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 la determinarea folosirii legal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375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fr-FR" sz="1800" spc="-1" strike="noStrike">
                <a:solidFill>
                  <a:srgbClr val="f5e647"/>
                </a:solidFill>
                <a:latin typeface="Verdana"/>
              </a:rPr>
              <a:t>Scopul 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ş</a:t>
            </a:r>
            <a:r>
              <a:rPr b="1" lang="fr-FR" sz="1800" spc="-1" strike="noStrike">
                <a:solidFill>
                  <a:srgbClr val="f5e647"/>
                </a:solidFill>
                <a:latin typeface="Verdana"/>
              </a:rPr>
              <a:t>i caracterul folosirii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, inclusiv dac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folosirea este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de natur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comercial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n scopuri educative nonprof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oate fi folosit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 scopuri educa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onale, nu doar intr-un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ediu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la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Natura lucr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ă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rii protej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- folosirea legal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se aplic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mai pu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 lucr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ilor creative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 compara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e cu cele bazate pe fapte din natur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Marimea par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ţ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ii folosit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 raport cu lucrarea protejat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- folosirea doar a ceea ce este necesar, nu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i a “miezului” lucr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ri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4.   </a:t>
            </a:r>
            <a:r>
              <a:rPr b="1" lang="fr-FR" sz="1800" spc="-1" strike="noStrike">
                <a:solidFill>
                  <a:srgbClr val="f5e647"/>
                </a:solidFill>
                <a:latin typeface="Verdana"/>
              </a:rPr>
              <a:t>Efectul folosirii asupra poten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ţ</a:t>
            </a:r>
            <a:r>
              <a:rPr b="1" lang="fr-FR" sz="1800" spc="-1" strike="noStrike">
                <a:solidFill>
                  <a:srgbClr val="f5e647"/>
                </a:solidFill>
                <a:latin typeface="Verdana"/>
              </a:rPr>
              <a:t>ialei pie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ţ</a:t>
            </a:r>
            <a:r>
              <a:rPr b="1" lang="fr-FR" sz="1800" spc="-1" strike="noStrike">
                <a:solidFill>
                  <a:srgbClr val="f5e647"/>
                </a:solidFill>
                <a:latin typeface="Verdana"/>
              </a:rPr>
              <a:t>e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a lucr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rii protejate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- copierea nu trebuie s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afecteze pia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a lucr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rii protejate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-   culegeri de probleme,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tareste mult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potriva  folosirii lega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ubstituent număr diapozitiv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8716-731D-4330-8384-A7230B4552B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Ghidul folosirii lega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air Use Guidelines for Educational Multimedia “ a fost creat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a oferi suport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 priv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folosirii lega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Cu toate acestea : - nu este un document legal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,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ste doar o interpretare a legii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 aplica doar educatorilor care produc multimed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ubstituent număr diapozitiv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BA4E-91C4-40F4-87D4-6CF0DC8023C5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Ghid p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entru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 studen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ţ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tude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i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educatorii au ghiduri sepa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Studen</a:t>
            </a:r>
            <a:r>
              <a:rPr b="0" lang="ro-RO" sz="1800" spc="-1" strike="noStrike">
                <a:solidFill>
                  <a:srgbClr val="f5e647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ii pot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corpora po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uni din luc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 protejate 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d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realizeaz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ropriile proiecte educ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onale multimedia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un anumit cu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ezenta  propriile proiecte la cursul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are au fost cre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e proiectele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 propriile portofolii ca exemple ale muncii academice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scopuri personale ulterioare cum ar fi servicii sau interviuri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la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ubstituent număr diapozitiv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E3F9-B545-4458-8CFF-C9D0ED0CE8B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Ghid pt educatori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Educatorii po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corpora po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uni din luc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 protejate 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d  realizeaz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roiecte educ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onale multimedia care 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v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 ajutorul pred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e proiectele pe termen nedefinit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 urm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arele scopu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a le prezenta colegilor 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ca exemeple la confer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le r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 portofolii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uz personal cum ar fi promo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i sau  interviuri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jobu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foloseas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proiectele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predare pe o perioad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de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la 2 ani dupa prima folosire cu o cla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losirea du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aceas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erioad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de timp necesi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ermisiunea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fiecare po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une proteja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corpora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ubstituent număr diapozitiv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8652-FAF9-4789-B838-A100C8E18D5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37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Verdana"/>
              </a:rPr>
              <a:t>Sfaturi p</a:t>
            </a:r>
            <a:r>
              <a:rPr b="1" lang="ro-RO" sz="2200" spc="-1" strike="noStrike" u="sng">
                <a:solidFill>
                  <a:srgbClr val="ffffff"/>
                </a:solidFill>
                <a:uFillTx/>
                <a:latin typeface="Verdana"/>
              </a:rPr>
              <a:t>entru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Verdana"/>
              </a:rPr>
              <a:t> a r</a:t>
            </a:r>
            <a:r>
              <a:rPr b="1" lang="ro-RO" sz="2200" spc="-1" strike="noStrike" u="sng">
                <a:solidFill>
                  <a:srgbClr val="ffffff"/>
                </a:solidFill>
                <a:uFillTx/>
                <a:latin typeface="Verdana"/>
              </a:rPr>
              <a:t>ă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ro-RO" sz="2200" spc="-1" strike="noStrike" u="sng">
                <a:solidFill>
                  <a:srgbClr val="ffffff"/>
                </a:solidFill>
                <a:uFillTx/>
                <a:latin typeface="Verdana"/>
              </a:rPr>
              <a:t>â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Verdana"/>
              </a:rPr>
              <a:t>ne </a:t>
            </a:r>
            <a:r>
              <a:rPr b="1" lang="ro-RO" sz="2200" spc="-1" strike="noStrike" u="sng">
                <a:solidFill>
                  <a:srgbClr val="ffffff"/>
                </a:solidFill>
                <a:uFillTx/>
                <a:latin typeface="Verdana"/>
              </a:rPr>
              <a:t>î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Verdana"/>
              </a:rPr>
              <a:t>n permisiunea legal</a:t>
            </a:r>
            <a:r>
              <a:rPr b="1" lang="ro-RO" sz="2200" spc="-1" strike="noStrike" u="sng">
                <a:solidFill>
                  <a:srgbClr val="ffffff"/>
                </a:solidFill>
                <a:uFillTx/>
                <a:latin typeface="Verdana"/>
              </a:rPr>
              <a:t>ă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5760" y="1371600"/>
          <a:ext cx="8237520" cy="4543560"/>
        </p:xfrm>
        <a:graphic>
          <a:graphicData uri="http://schemas.openxmlformats.org/drawingml/2006/table">
            <a:tbl>
              <a:tblPr/>
              <a:tblGrid>
                <a:gridCol w="2947680"/>
                <a:gridCol w="528984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tion Med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sau 3 minu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sau 1000 cuvi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ez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0 de cuvinte; nu mai multe de 3 poezii de acela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ş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 autor; nu mai mult de 5 poezii dintr-o singur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ă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antolog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zica,versuri, vide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sau 30 secun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otografii 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ş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 Ilustratat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 imagini de la un autor;Nu mai mult de  10% sau 15 imagini dintr-o singur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ă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publica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ţ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turi de date nume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din 2500  c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â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uri sau celu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 Box 26"/>
          <p:cNvSpPr/>
          <p:nvPr/>
        </p:nvSpPr>
        <p:spPr>
          <a:xfrm>
            <a:off x="152280" y="4572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n lucrarea protejat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folosi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c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 mai pu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din urm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arel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4:12:48Z</dcterms:created>
  <dc:creator>Judi Edman</dc:creator>
  <dc:description/>
  <dc:language>en-US</dc:language>
  <cp:lastModifiedBy>EP</cp:lastModifiedBy>
  <dcterms:modified xsi:type="dcterms:W3CDTF">2009-08-25T13:33:55Z</dcterms:modified>
  <cp:revision>311</cp:revision>
  <dc:subject/>
  <dc:title>Copyright Chaos</dc:title>
</cp:coreProperties>
</file>